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2CAA-5BCA-4CBA-B680-D520E0A3C5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0F70-50BC-4E33-91B4-8E8C1023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DD9D-FD88-4D79-A444-45ECC001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C68C-5A9B-4779-8060-1BFFB8AC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8BFA-37C4-4065-AE47-33E108E1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2D3B-39CD-428F-985D-FEE3C527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8A48-A292-44D2-B9CA-3D37418F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B1BA-7EFC-46B4-9711-AACBE39D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6FC3-2856-4769-BF12-5C88F5B8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B806-8316-49A3-A644-9C2A621F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E38C-0661-4797-A20E-CC06FA6E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C386-CE6F-4D9B-B130-419C1EDA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9286-08A0-4479-BFB8-C50B80A1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B5AC-A5CE-4EC2-BCDD-A729CE64E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weight(w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directly proportional to acceleration due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w=m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Pressure(P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P=F/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2ccf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requency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124080" y="39625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f=1/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Acceleration(a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is direct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inverse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048120" y="48006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a=F/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048120" y="4952880"/>
            <a:ext cx="464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= (</a:t>
            </a: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2514600" y="831960"/>
                <a:ext cx="3962520" cy="36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Text Box 7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0"/>
          <p:cNvSpPr/>
          <p:nvPr/>
        </p:nvSpPr>
        <p:spPr>
          <a:xfrm flipV="1">
            <a:off x="3505320" y="1600200"/>
            <a:ext cx="1828800" cy="5335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3505320" y="3124080"/>
            <a:ext cx="1600200" cy="533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1523880" y="1828800"/>
                <a:ext cx="601992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 flipV="1">
            <a:off x="2819520" y="2514600"/>
            <a:ext cx="2361960" cy="76320"/>
          </a:xfrm>
          <a:prstGeom prst="line">
            <a:avLst/>
          </a:prstGeom>
          <a:ln w="572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1"/>
          <p:cNvGrpSpPr/>
          <p:nvPr/>
        </p:nvGrpSpPr>
        <p:grpSpPr>
          <a:xfrm>
            <a:off x="2971800" y="1752480"/>
            <a:ext cx="3352680" cy="533520"/>
            <a:chOff x="2971800" y="1752480"/>
            <a:chExt cx="3352680" cy="533520"/>
          </a:xfrm>
        </p:grpSpPr>
        <p:sp>
          <p:nvSpPr>
            <p:cNvPr id="62" name="Line 9"/>
            <p:cNvSpPr/>
            <p:nvPr/>
          </p:nvSpPr>
          <p:spPr>
            <a:xfrm flipV="1">
              <a:off x="2971800" y="1752480"/>
              <a:ext cx="2666880" cy="5335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5562720" y="1828800"/>
              <a:ext cx="761760" cy="4572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2286000" y="1295280"/>
                <a:ext cx="4495680" cy="33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>
            <a:off x="3200400" y="2666880"/>
            <a:ext cx="2819520" cy="53352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3200400" y="2819520"/>
            <a:ext cx="190512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4d4f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5:42:34Z</dcterms:created>
  <dc:creator>administrator</dc:creator>
  <dc:description/>
  <dc:language>en-US</dc:language>
  <cp:lastModifiedBy>LEGION</cp:lastModifiedBy>
  <dcterms:modified xsi:type="dcterms:W3CDTF">2017-07-06T06:32:40Z</dcterms:modified>
  <cp:revision>10</cp:revision>
  <dc:subject/>
  <dc:title>Directly and inversely proportional</dc:title>
</cp:coreProperties>
</file>